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720B-BD4B-4004-96F3-1BFE348A6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841B-2912-40B0-833D-85B0C9E35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AD74-7FDA-459C-B716-FE5157543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BD6F-50B3-4E2C-8E88-FAA300766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E7C34-D6AE-4EAE-AA53-925DBBB44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6A5EA-874D-455F-8D15-5E268B20B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C9984-C981-4283-936C-D21F54B15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B6B0C-2810-4F30-B717-28DF61E77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BBDAC-1C63-4578-87D2-095791BE1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3CE09-B3C6-4188-B6C2-57BFBF277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6B7BB-8190-47E6-A9C9-7FB7C0A27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09AF-6EC9-4552-AEB8-6EB4096BC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55221-7D27-467E-AD79-790D4765F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E524B-2525-4051-9B06-B0176F93A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13164-4B90-456F-8A63-08EB6900B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B2695-173E-4213-8630-99E1F40F1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6A0C8-6F21-441D-A648-26068D3FB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72DF-6F50-45DB-9608-DEAAF7E4C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377A-DBB4-4053-A780-FE25297EC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E640-FE5A-4F76-963D-7E4030098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D7CC-A3BE-4013-8DAA-CEE1A697C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C9C4-3AFF-46A0-9D63-D8ED34BC2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2849-33AB-4AD5-970F-5230486FC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D069-0E4A-49C3-AF82-55E6940E9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8827D-715E-40EC-99FF-BA629309AB4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351E2-2B80-4154-9352-8F0F7786ABA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0066"/>
                </a:solidFill>
                <a:latin typeface="Arial"/>
              </a:rPr>
              <a:t>Архитектура </a:t>
            </a:r>
            <a:br>
              <a:rPr sz="4800"/>
            </a:br>
            <a:r>
              <a:rPr b="1" lang="ru-RU" sz="4800" spc="-1" strike="noStrike">
                <a:solidFill>
                  <a:srgbClr val="330066"/>
                </a:solidFill>
                <a:latin typeface="Arial"/>
              </a:rPr>
              <a:t>клиент-сервер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Почему клиент-сервер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Использование решения клиент/сервер может заинтересовать вас в следующем случае: представьте, что вы ответственны за создание приложения, которое обращается к данным, постоянно находящимся в локальной сети или на файловом сервере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Внутри вашего подразделения к этому приложению могут обратиться одновременно несколько пользователей, а со временем появляются и другие приложения для работы с этими данным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Предположим, что эти данные представляют интерес и для других подразделений внутри вашей организаци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Например в  некоторых подразделениях нашей компании  должны быть созданы дополнительные приложения. При этом, скорее всего, необходимо переместить данные на сервер для того, чтобы сделать их доступнее для всех пользователей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оскольку это происходит на уровне организации, важно, чтобы используемое решение позволяло осуществить доступ к данным не только быстро, но и в необходимом для приложения вид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ледует отметить, что глобальная доступность данных приводит к появлению некоторых проблем. Самые важные из них  -  чрезмерная сетевая нагрузка и зaщита данных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В приведенном примере показано что технологи клиент –сервер  обладает целым рядом преимуществ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Допускает ведомственный доступ к данным, что позволяет подразделениям обрабатывать только ту часть данных, за которую они ответственны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Обеспечивает доступ к данным способом, предложенным производителем базы данных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Устанавливает правила целостности данных для всей базы данных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Обеспечивает "разделение труда" между клиентом и сервером (каждый выполняет задачи, для решения которых более приспособлен)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Может использовать улучшенные возможности целостности данных, обеспечиваемые большинством серверов базы данных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Уменьшает сетевую нагрузку, поскольку клиенту возвращаются подмножества данных, а не все таблицы, в случае локальных баз данных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Следует отметить, что использование технологии клиент-сервер не всегда оправдано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Разработчик должен провести полный анализ требований к системе для определения того, является ли технология клиент-сервер именно тем средством, которое необходимо для решения поставленных задач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Кроме того, следует учесть, что системы клиент/сервер весьма дорогостоящие. В эту стоимость входит программное обеспечение, операционная система, сервер базы данных и аппаратные средства, соответствующие программному обеспечению этого уровня. Не стоит забывать и о затратах пользователей работе с операционной системой и программным обеспечением базы данных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Клиент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сновная функция компьютера-клиента ( или программы-клиента) состоит в выполнении приложения (интерфейса с пользователем и логики представления) и осуществлении связи с сервером, когда этого требует приложени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Сервер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Как следует уже из самого термина, главная функция компьютера-сервера заключается в обслуживании потребностей клиента. Термин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"Сервер"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используется для обозначения двух различных групп функций: файл-сервер и сервер баз данных (далее эти термины означают в зависимости от контекста либо программное обеспечение, реализующее указанные группы функций, либо компьютеры с этим программным обеспечением.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Файл-серверы не предназначены для выполнения операций с базами данных, их основная функция -разделение файлов между несколькими пользователями, т.е. обеспечение одновременного доступа многих пользователей к файлам на компьютере - файл-сервере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Но чаще компьютер с сервером баз данных выделяется только для выполнения операций с базами данных. Связь с клиентом, анализ и выполнение запроса к базе данных, включая возврат клиенту результата запроса (набора строк из базы данных), управление одновременным доступом к базе данных многих пользователей, перенаправление запросов к другим серверам сети, выполнение реляционных операций, управление словарем-справочником данных и обеспечение защиты - таковы некоторые основные функции сервера баз данных. Одно из важных требований к серверу - это то, что операционная система, в среде которой размещен сервер баз данных, должна быть многозадачной (и, желательно, но не обязательно, многопользовательской)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330066"/>
                </a:solidFill>
                <a:latin typeface="Arial"/>
              </a:rPr>
              <a:t>Back Office Systems</a:t>
            </a:r>
            <a:endParaRPr b="1" lang="en-US" sz="3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До недавних пор разрабатываемые прикладные системы (или приложения) были </a:t>
            </a:r>
            <a:r>
              <a:rPr b="1" i="1" lang="ru-RU" sz="1900" spc="-1" strike="noStrike">
                <a:solidFill>
                  <a:srgbClr val="000000"/>
                </a:solidFill>
                <a:latin typeface="Arial"/>
              </a:rPr>
              <a:t>нацелены</a:t>
            </a:r>
            <a:r>
              <a:rPr b="1" i="1" lang="ru-RU" sz="19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на решение основных потребностей бизнеса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бработка платежных документов и расчет заработной платы (Payroll),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бработка счетов дебиторов (A/R) и кредиторов.(A/P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бработка учетных документов (Inventory Control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бработка заказов (Order Processing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акие системы называются </a:t>
            </a:r>
            <a:r>
              <a:rPr b="1" lang="ru-RU" sz="1900" spc="-1" strike="noStrike">
                <a:solidFill>
                  <a:srgbClr val="0000ff"/>
                </a:solidFill>
                <a:latin typeface="Arial"/>
              </a:rPr>
              <a:t>базовыми ("Back Office Systems").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Arial"/>
              </a:rPr>
              <a:t>Основной функцией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этих систем является хранение и ведение соответствующих записей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одобные системы </a:t>
            </a:r>
            <a:r>
              <a:rPr b="1" i="1" lang="ru-RU" sz="1900" spc="-1" strike="noStrike">
                <a:solidFill>
                  <a:srgbClr val="000000"/>
                </a:solidFill>
                <a:latin typeface="Arial"/>
              </a:rPr>
              <a:t>используются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во всех сферах деятельности, они могут быть приобретены на стороне и адаптированы к специфике конкретной организации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330066"/>
                </a:solidFill>
                <a:latin typeface="Arial"/>
              </a:rPr>
              <a:t>Front Office Application</a:t>
            </a:r>
            <a:endParaRPr b="1" lang="en-US" sz="3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 настоящее время возникла острая необходимость в прикладных системах, которые непосредственно способствуют успеху организации на рынке, ее доходности, росту продаж, анализу информацию и поддержке принятия решений, усовершенствованию продукции, автоматизации процессов производства и распределения и т.д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Эти системы можно назвать </a:t>
            </a:r>
            <a:r>
              <a:rPr b="1" lang="ru-RU" sz="1900" spc="-1" strike="noStrike">
                <a:solidFill>
                  <a:srgbClr val="0000ff"/>
                </a:solidFill>
                <a:latin typeface="Arial"/>
              </a:rPr>
              <a:t>системами взаимодействия с внешним миром ("Front Office Application").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Они должны быстро разрабатываться, функционировать в разнородных сетевых средах, сочетать использование таких видов информации как аудио, видео, графику и текст, иметь доступ к изолированным источниками информации ("информационным островам")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66"/>
                </a:solidFill>
                <a:latin typeface="Arial"/>
              </a:rPr>
              <a:t>Распределенные вычисления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ермин </a:t>
            </a:r>
            <a:r>
              <a:rPr b="1" lang="ru-RU" sz="1900" spc="-1" strike="noStrike">
                <a:solidFill>
                  <a:srgbClr val="0000ff"/>
                </a:solidFill>
                <a:latin typeface="Arial"/>
              </a:rPr>
              <a:t>"распределенные вычисления"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900" spc="-1" strike="noStrike">
                <a:solidFill>
                  <a:srgbClr val="0000ff"/>
                </a:solidFill>
                <a:latin typeface="Arial"/>
              </a:rPr>
              <a:t>(Distributing computing)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часто используется для обозначения двух различных, хотя и взаимодополняющих концепций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Распределенная база данных;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Распределенная обработка данных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именение этих концепций дает возможность организовать доступ к информации, хранящейся на нескольких машинах, для конечных пользователей, использующих различные средства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66"/>
                </a:solidFill>
                <a:latin typeface="Arial"/>
              </a:rPr>
              <a:t>Распределенная база данных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ff"/>
                </a:solidFill>
                <a:latin typeface="Arial"/>
              </a:rPr>
              <a:t>Распределенная база данных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- это набор баз данных, связанных между собой логически, но физически расположенных на нескольких машинах, входящих в одну компьютерную сеть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8000"/>
                </a:solidFill>
                <a:latin typeface="Arial"/>
              </a:rPr>
              <a:t>Важнейшие характеристики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распределенной базы данных таковы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озрачность расположения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автономность узлов распределенной базы данных </a:t>
            </a:r>
            <a:br>
              <a:rPr sz="1900"/>
            </a:b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(Site Autonomy)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обработка распределенных запросов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ыполнение распределенных транзакций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66"/>
                </a:solidFill>
                <a:latin typeface="Arial"/>
              </a:rPr>
              <a:t>Характеристики распределенной базы данных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88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8000"/>
                </a:solidFill>
                <a:latin typeface="Arial"/>
              </a:rPr>
              <a:t>Прозрачность расположения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позволяет пользователям работать с базами данных, не зная ничего об их расположении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88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8000"/>
                </a:solidFill>
                <a:latin typeface="Arial"/>
              </a:rPr>
              <a:t>Автономность узлов распределенной базы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данных означает, что ведение каждой базы может происходить независимо от других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88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8000"/>
                </a:solidFill>
                <a:latin typeface="Arial"/>
              </a:rPr>
              <a:t>Распределенный запрос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- это такой запрос (SQL-предложение), в ходе выполнения которого происходит доступ к объектам (таблицам или представлениям) разных баз данных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88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и выполнении распределенных транзакций осуществляется </a:t>
            </a:r>
            <a:r>
              <a:rPr b="1" i="1" lang="ru-RU" sz="1900" spc="-1" strike="noStrike">
                <a:solidFill>
                  <a:srgbClr val="008000"/>
                </a:solidFill>
                <a:latin typeface="Arial"/>
              </a:rPr>
              <a:t>согласованное управление (concurrency control)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всеми вовлеченными базами данных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Распределенная обработка данных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Распределенная обработка данных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означает разные понятия для разных людей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ccc00"/>
                </a:solidFill>
                <a:latin typeface="Arial"/>
              </a:rPr>
              <a:t>Например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 Oracle это отделение прикладных программ от выполнения операций с базами данных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Операции с базами данных носят общий характер и могут соответствовать требованиям различных приложений по обработке информации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ыполнение операций с базами данных на одной машине и приложений на другой - это и есть распределенная обработка данных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вязь между приложением и процессами выполнения операций с базами данных реализуется как аппаратурой, так и путем программного обеспечения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66"/>
                </a:solidFill>
                <a:latin typeface="Arial"/>
              </a:rPr>
              <a:t>Клиент-сервер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Технология клиент-сервер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является реализацией распределенной обработки данных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Типичная архитектура клиент/сервер состоит из </a:t>
            </a:r>
            <a:r>
              <a:rPr b="1" i="1" lang="en-US" sz="1900" spc="-1" strike="noStrike">
                <a:solidFill>
                  <a:srgbClr val="008000"/>
                </a:solidFill>
                <a:latin typeface="Arial"/>
              </a:rPr>
              <a:t>программы</a:t>
            </a:r>
            <a:r>
              <a:rPr b="1" lang="en-US" sz="1900" spc="-1" strike="noStrike">
                <a:solidFill>
                  <a:srgbClr val="008000"/>
                </a:solidFill>
                <a:latin typeface="Arial"/>
              </a:rPr>
              <a:t>-</a:t>
            </a:r>
            <a:r>
              <a:rPr b="1" i="1" lang="en-US" sz="1900" spc="-1" strike="noStrike">
                <a:solidFill>
                  <a:srgbClr val="008000"/>
                </a:solidFill>
                <a:latin typeface="Arial"/>
              </a:rPr>
              <a:t>клиента</a:t>
            </a:r>
            <a:r>
              <a:rPr b="1" lang="en-US" sz="19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конечного пользователя, которая имеет доступ  на удаленном компьютере-</a:t>
            </a:r>
            <a:r>
              <a:rPr b="1" i="1" lang="en-US" sz="1900" spc="-1" strike="noStrike">
                <a:solidFill>
                  <a:srgbClr val="008000"/>
                </a:solidFill>
                <a:latin typeface="Arial"/>
              </a:rPr>
              <a:t>сервере</a:t>
            </a: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Это разделение процессов обработки данных основано на группировании функций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Не существует никакого стандартного определения, что такое клиент и чем занимается сервер. Однако можно полагать, что 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сервер обеспечивает сервис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клиент запрашивает сервис у сервера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К одному и тому же серверу может обращаться множество клиентов с требованием предоставить им какой-либо сервис, и именно сервер решает, как обработать такие запросы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В среде клиент-сервер последний играет намного большую роль, чем просто распределитель данных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Фактически сервер выполняет основную часть работы системы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Сервер  в некоторой мере руководит клиентом, каким образом тот должен получать доступ и управлять данными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Реально клиентские приложения предназначены только для предоставления данных пользователю или для их доставки от конечного пользователя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6-07-06T02:26:53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